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0D8E-70F2-4F9C-96F6-6A493CC01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51B0-CA8E-4BB5-A650-98D0743DB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AE05-8746-434D-95BA-AC502C295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62BA-2126-45E0-BD8A-28F69064D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BCBE-C30B-456A-BB27-EDD21EBD1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734F-EFBE-4E56-ADEB-D3D7E0B6B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FD40-A9D2-4597-941D-8C62904A3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8110-EF39-4C20-9641-DACBD4F02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213B-2360-48EA-B6C1-B0BCC9007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1783-E4B9-4570-9324-0CAA3AD1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C48A-1474-4DD1-9DE4-D7A34561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533F-A038-4219-91EC-272B57BB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89FAA-8E4C-4370-A44B-94B7EA5DAA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673200"/>
            <a:ext cx="7619760" cy="55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676520" y="1557360"/>
          <a:ext cx="5790960" cy="37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557360"/>
                    <a:ext cx="579096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590920" y="1905120"/>
          <a:ext cx="3504960" cy="44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905120"/>
                    <a:ext cx="350496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828800" y="2057400"/>
          <a:ext cx="5229360" cy="36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057400"/>
                    <a:ext cx="5229360" cy="36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~AUT0006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467840" cy="47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~AUT000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~AUT00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7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0T15:26:54Z</dcterms:created>
  <dc:creator>Stroudsburg Area School Dist</dc:creator>
  <dc:description/>
  <dc:language>en-US</dc:language>
  <cp:lastModifiedBy>Kurt Pfeiffer</cp:lastModifiedBy>
  <dcterms:modified xsi:type="dcterms:W3CDTF">2003-02-21T19:57:46Z</dcterms:modified>
  <cp:revision>6</cp:revision>
  <dc:subject/>
  <dc:title>No Slide Title</dc:title>
</cp:coreProperties>
</file>